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0.jpeg" ContentType="image/jpeg"/>
  <Override PartName="/ppt/media/image11.jpeg" ContentType="image/jpeg"/>
  <Override PartName="/ppt/media/image41.wmf" ContentType="image/x-wmf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8FA-ED4E-4DD5-9BD4-067E0996990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9F17-B7D8-426F-A762-D61F2853B93E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258-F2A4-4A3E-9ED7-04792963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C1C-FA40-4FDB-802B-6E562470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7E9-079D-49CF-AF84-CC30CDD4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725-CA7F-431B-9635-B74FF5D4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B36D-317A-41DC-B126-C42F2B3E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A30-4C87-4C96-A46F-66E3B9D0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AB50-A44D-4F91-820C-4324BD62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0A1B-28B0-4557-8747-AA623FF4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A692-1C3B-45B0-9984-C3E3017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FF0-5978-46C9-A470-2A846B9B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D599-483B-4ECC-BAF6-93A9A6C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FE9-06F8-4078-BADB-DCD7D1A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4774-C992-4DA3-A117-8CD30EC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90C8-4742-413D-AC3E-8275033A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75F2-760B-4F06-8A86-CFB5A02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7FF2-0D53-4AA3-A5CD-61FC3407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121-35E0-464D-8236-27895E44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A03-75BD-4EFE-8233-6EC629F0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B3A-64A1-4119-906E-0F31FF6C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EB7-0277-48AC-A217-171DEC46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394-16D8-4496-AF4A-BCB3DDA0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349-8D46-4D5D-AE8A-8C2BC9CA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F10-9F59-4649-AD2D-1153AEB7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B3E-EA59-4EB4-A323-9A3E232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3C7-1D81-4641-B8C5-B87DB7B8D757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lamina ppt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6 Imagen" descr="lamina ppt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7 Imagen" descr="lamina ppt-0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6E55-0C92-430D-8B77-5CCE7276D1C3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3 Imagen" descr="lamina ppt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5 CuadroTexto"/>
          <p:cNvSpPr/>
          <p:nvPr/>
        </p:nvSpPr>
        <p:spPr>
          <a:xfrm>
            <a:off x="1547640" y="295128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MENSAJERIA VEC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9d9d9"/>
                </a:solidFill>
                <a:latin typeface="Arial"/>
                <a:ea typeface="Arial"/>
              </a:rPr>
              <a:t>La participación del ciudadano en la gestión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6 Rectángulo"/>
          <p:cNvSpPr/>
          <p:nvPr/>
        </p:nvSpPr>
        <p:spPr>
          <a:xfrm>
            <a:off x="755640" y="2786040"/>
            <a:ext cx="76327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Rectángulo"/>
          <p:cNvSpPr/>
          <p:nvPr/>
        </p:nvSpPr>
        <p:spPr>
          <a:xfrm>
            <a:off x="755640" y="5097600"/>
            <a:ext cx="76327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3" name="3 Imagen" descr="lamina ppt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5 CuadroTexto"/>
          <p:cNvSpPr/>
          <p:nvPr/>
        </p:nvSpPr>
        <p:spPr>
          <a:xfrm>
            <a:off x="1795320" y="33894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Myriad Pro"/>
                <a:ea typeface="Myriad Arabic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6 Rectángulo"/>
          <p:cNvSpPr/>
          <p:nvPr/>
        </p:nvSpPr>
        <p:spPr>
          <a:xfrm>
            <a:off x="755640" y="2951280"/>
            <a:ext cx="76327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Rectángulo"/>
          <p:cNvSpPr/>
          <p:nvPr/>
        </p:nvSpPr>
        <p:spPr>
          <a:xfrm>
            <a:off x="755640" y="4535640"/>
            <a:ext cx="763272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Rectángulo redondeado"/>
          <p:cNvSpPr/>
          <p:nvPr/>
        </p:nvSpPr>
        <p:spPr>
          <a:xfrm>
            <a:off x="1763640" y="1052640"/>
            <a:ext cx="5880240" cy="1228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EL VECINO DE LIM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PARTICIPE DE LA GESTION Y MENSAJERO DE LA CUTURA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>
            <a:hlinkClick r:id="" action="ppaction://hlinkshowjump?jump=nextslide"/>
          </p:cNvPr>
          <p:cNvSpPr/>
          <p:nvPr/>
        </p:nvSpPr>
        <p:spPr>
          <a:xfrm>
            <a:off x="468360" y="2421000"/>
            <a:ext cx="4103640" cy="2236680"/>
          </a:xfrm>
          <a:prstGeom prst="flowChartAlternateProcess">
            <a:avLst/>
          </a:prstGeom>
          <a:solidFill>
            <a:srgbClr val="006699">
              <a:alpha val="10000"/>
            </a:srgbClr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11280" y="274464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Somos un Organismo Público de la Corporación Municipal Metropolitana de Lima, tenemos como misión principal la recaudación de los tributos de la Municipalidad Metropolitana de Li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>
            <a:hlinkClick r:id="" action="ppaction://hlinkshowjump?jump=nextslide"/>
          </p:cNvPr>
          <p:cNvSpPr/>
          <p:nvPr/>
        </p:nvSpPr>
        <p:spPr>
          <a:xfrm>
            <a:off x="5003640" y="2430360"/>
            <a:ext cx="3783240" cy="2227320"/>
          </a:xfrm>
          <a:prstGeom prst="flowChartAlternateProcess">
            <a:avLst/>
          </a:prstGeom>
          <a:solidFill>
            <a:srgbClr val="006699">
              <a:alpha val="10000"/>
            </a:srgbClr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219640" y="2960280"/>
            <a:ext cx="346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Estamos comprometidos con el mejoramiento de la calidad de vida de los vecinos del Cercado de Li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3 Imagen" descr="fotolia_7346705.jpg"/>
          <p:cNvPicPr/>
          <p:nvPr/>
        </p:nvPicPr>
        <p:blipFill>
          <a:blip r:embed="rId1"/>
          <a:stretch/>
        </p:blipFill>
        <p:spPr>
          <a:xfrm>
            <a:off x="3635280" y="5092560"/>
            <a:ext cx="1401840" cy="1432080"/>
          </a:xfrm>
          <a:prstGeom prst="rect">
            <a:avLst/>
          </a:prstGeom>
          <a:ln w="0">
            <a:noFill/>
          </a:ln>
        </p:spPr>
      </p:pic>
      <p:pic>
        <p:nvPicPr>
          <p:cNvPr id="104" name="42 Imagen" descr="logo-SAT (3)"/>
          <p:cNvPicPr/>
          <p:nvPr/>
        </p:nvPicPr>
        <p:blipFill>
          <a:blip r:embed="rId2"/>
          <a:stretch/>
        </p:blipFill>
        <p:spPr>
          <a:xfrm>
            <a:off x="6880320" y="5302080"/>
            <a:ext cx="1868400" cy="790920"/>
          </a:xfrm>
          <a:prstGeom prst="rect">
            <a:avLst/>
          </a:prstGeom>
          <a:ln w="0">
            <a:noFill/>
          </a:ln>
        </p:spPr>
      </p:pic>
      <p:sp>
        <p:nvSpPr>
          <p:cNvPr id="105" name="15 Rombo"/>
          <p:cNvSpPr/>
          <p:nvPr/>
        </p:nvSpPr>
        <p:spPr>
          <a:xfrm>
            <a:off x="4551480" y="4797360"/>
            <a:ext cx="2165400" cy="2109960"/>
          </a:xfrm>
          <a:prstGeom prst="diamond">
            <a:avLst/>
          </a:prstGeom>
          <a:solidFill>
            <a:srgbClr val="77933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3.bp.blogspot.com/-gI-pripFZKE/UEuDuht_OuI/AAAAAAAAEKU/el7qQ5bmIqg/s1600/Fotolia_9090314_Subscription_L.jpg"/>
          <p:cNvPicPr/>
          <p:nvPr/>
        </p:nvPicPr>
        <p:blipFill>
          <a:blip r:embed="rId3"/>
          <a:stretch/>
        </p:blipFill>
        <p:spPr>
          <a:xfrm>
            <a:off x="4788000" y="4941720"/>
            <a:ext cx="1733400" cy="1652760"/>
          </a:xfrm>
          <a:prstGeom prst="rect">
            <a:avLst/>
          </a:prstGeom>
          <a:ln w="0">
            <a:noFill/>
          </a:ln>
        </p:spPr>
      </p:pic>
      <p:sp>
        <p:nvSpPr>
          <p:cNvPr id="107" name="146 Cheurón"/>
          <p:cNvSpPr/>
          <p:nvPr/>
        </p:nvSpPr>
        <p:spPr>
          <a:xfrm>
            <a:off x="611280" y="5450040"/>
            <a:ext cx="3000240" cy="64296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604a7b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eeece1"/>
                </a:solidFill>
                <a:latin typeface="Calibri"/>
              </a:rPr>
              <a:t>VISION INTEG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6 Llamada rectangular redondeada"/>
          <p:cNvSpPr/>
          <p:nvPr/>
        </p:nvSpPr>
        <p:spPr>
          <a:xfrm>
            <a:off x="1004760" y="1125360"/>
            <a:ext cx="5800680" cy="4445280"/>
          </a:xfrm>
          <a:prstGeom prst="wedgeRoundRectCallout">
            <a:avLst>
              <a:gd name="adj1" fmla="val 71509"/>
              <a:gd name="adj2" fmla="val -351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39 Grupo"/>
          <p:cNvGrpSpPr/>
          <p:nvPr/>
        </p:nvGrpSpPr>
        <p:grpSpPr>
          <a:xfrm>
            <a:off x="1079640" y="1204920"/>
            <a:ext cx="5702040" cy="4065480"/>
            <a:chOff x="1079640" y="1204920"/>
            <a:chExt cx="5702040" cy="4065480"/>
          </a:xfrm>
        </p:grpSpPr>
        <p:grpSp>
          <p:nvGrpSpPr>
            <p:cNvPr id="110" name="32 Grupo"/>
            <p:cNvGrpSpPr/>
            <p:nvPr/>
          </p:nvGrpSpPr>
          <p:grpSpPr>
            <a:xfrm>
              <a:off x="1079640" y="1204920"/>
              <a:ext cx="5702040" cy="3993480"/>
              <a:chOff x="1079640" y="1204920"/>
              <a:chExt cx="5702040" cy="3993480"/>
            </a:xfrm>
          </p:grpSpPr>
          <p:sp>
            <p:nvSpPr>
              <p:cNvPr id="111" name="17 Redondear rectángulo de esquina del mismo lado"/>
              <p:cNvSpPr/>
              <p:nvPr/>
            </p:nvSpPr>
            <p:spPr>
              <a:xfrm>
                <a:off x="1230840" y="1204920"/>
                <a:ext cx="4853880" cy="977400"/>
              </a:xfrm>
              <a:custGeom>
                <a:avLst/>
                <a:gdLst/>
                <a:ahLst/>
                <a:rect l="l" t="t" r="r" b="b"/>
                <a:pathLst>
                  <a:path w="4622167" h="927929">
                    <a:moveTo>
                      <a:pt x="463965" y="0"/>
                    </a:moveTo>
                    <a:lnTo>
                      <a:pt x="4158203" y="0"/>
                    </a:lnTo>
                    <a:cubicBezTo>
                      <a:pt x="4414444" y="0"/>
                      <a:pt x="4622168" y="207724"/>
                      <a:pt x="4622168" y="463965"/>
                    </a:cubicBezTo>
                    <a:cubicBezTo>
                      <a:pt x="4622168" y="618620"/>
                      <a:pt x="4622167" y="773274"/>
                      <a:pt x="4622167" y="927929"/>
                    </a:cubicBezTo>
                    <a:lnTo>
                      <a:pt x="4622167" y="927929"/>
                    </a:lnTo>
                    <a:lnTo>
                      <a:pt x="0" y="927929"/>
                    </a:lnTo>
                    <a:lnTo>
                      <a:pt x="0" y="927929"/>
                    </a:lnTo>
                    <a:lnTo>
                      <a:pt x="0" y="463965"/>
                    </a:lnTo>
                    <a:cubicBezTo>
                      <a:pt x="0" y="207724"/>
                      <a:pt x="207724" y="0"/>
                      <a:pt x="46396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24 Imagen" descr="stock-footage-check-box-with-green-check-mark-isolated-on-white-part-of-a-series.jpg"/>
              <p:cNvPicPr/>
              <p:nvPr/>
            </p:nvPicPr>
            <p:blipFill>
              <a:blip r:embed="rId1"/>
              <a:stretch/>
            </p:blipFill>
            <p:spPr>
              <a:xfrm>
                <a:off x="1079640" y="2474280"/>
                <a:ext cx="52416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24 Imagen" descr="stock-footage-check-box-with-green-check-mark-isolated-on-white-part-of-a-series.jpg"/>
              <p:cNvPicPr/>
              <p:nvPr/>
            </p:nvPicPr>
            <p:blipFill>
              <a:blip r:embed="rId2"/>
              <a:stretch/>
            </p:blipFill>
            <p:spPr>
              <a:xfrm>
                <a:off x="1079640" y="4668480"/>
                <a:ext cx="524160" cy="52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24 Imagen" descr="stock-footage-check-box-with-green-check-mark-isolated-on-white-part-of-a-series.jpg"/>
              <p:cNvPicPr/>
              <p:nvPr/>
            </p:nvPicPr>
            <p:blipFill>
              <a:blip r:embed="rId3"/>
              <a:stretch/>
            </p:blipFill>
            <p:spPr>
              <a:xfrm>
                <a:off x="1079640" y="3583440"/>
                <a:ext cx="524160" cy="52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21 CuadroTexto"/>
              <p:cNvSpPr/>
              <p:nvPr/>
            </p:nvSpPr>
            <p:spPr>
              <a:xfrm>
                <a:off x="2628000" y="4500360"/>
                <a:ext cx="386136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0000ff"/>
                    </a:solidFill>
                    <a:latin typeface="Arial"/>
                  </a:rPr>
                  <a:t>Contribuyentes que no cumplen  oportunamente con sus obligaciones tributaria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22 CuadroTexto"/>
              <p:cNvSpPr/>
              <p:nvPr/>
            </p:nvSpPr>
            <p:spPr>
              <a:xfrm>
                <a:off x="2655360" y="3572280"/>
                <a:ext cx="412632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0000ff"/>
                    </a:solidFill>
                    <a:latin typeface="Arial"/>
                  </a:rPr>
                  <a:t>Locaciones o zonas de difícil acceso y con  nivel de peligrosidad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23 CuadroTexto"/>
              <p:cNvSpPr/>
              <p:nvPr/>
            </p:nvSpPr>
            <p:spPr>
              <a:xfrm>
                <a:off x="2628000" y="2301120"/>
                <a:ext cx="4126320" cy="86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0000ff"/>
                    </a:solidFill>
                    <a:latin typeface="Arial"/>
                  </a:rPr>
                  <a:t>Vecinos</a:t>
                </a:r>
                <a:r>
                  <a:rPr b="1" lang="es-ES" sz="1400" spc="-1" strike="noStrike">
                    <a:solidFill>
                      <a:srgbClr val="0000ff"/>
                    </a:solidFill>
                    <a:latin typeface="Arial"/>
                  </a:rPr>
                  <a:t> del Cercado de Lima, menos favorecidos, en su mayoría en condición de desempleo, con nivel académico básico con </a:t>
                </a:r>
                <a:r>
                  <a:rPr b="1" lang="es-PE" sz="1400" spc="-1" strike="noStrike">
                    <a:solidFill>
                      <a:srgbClr val="0000ff"/>
                    </a:solidFill>
                    <a:latin typeface="Arial"/>
                  </a:rPr>
                  <a:t>poca experiencia labora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10 Rectángulo redondeado"/>
            <p:cNvSpPr/>
            <p:nvPr/>
          </p:nvSpPr>
          <p:spPr>
            <a:xfrm>
              <a:off x="1679400" y="2398680"/>
              <a:ext cx="974520" cy="67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11 Rectángulo redondeado"/>
            <p:cNvSpPr/>
            <p:nvPr/>
          </p:nvSpPr>
          <p:spPr>
            <a:xfrm>
              <a:off x="1679400" y="3511440"/>
              <a:ext cx="974520" cy="67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2 Rectángulo redondeado"/>
            <p:cNvSpPr/>
            <p:nvPr/>
          </p:nvSpPr>
          <p:spPr>
            <a:xfrm>
              <a:off x="1679400" y="4592520"/>
              <a:ext cx="974520" cy="67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36 Imagen" descr="Fotolia_6135219_XS.jpg"/>
            <p:cNvPicPr/>
            <p:nvPr/>
          </p:nvPicPr>
          <p:blipFill>
            <a:blip r:embed="rId4"/>
            <a:stretch/>
          </p:blipFill>
          <p:spPr>
            <a:xfrm>
              <a:off x="1819440" y="4667760"/>
              <a:ext cx="685440" cy="6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37 Imagen" descr="Fotolia_35061180_XS.jpg"/>
            <p:cNvPicPr/>
            <p:nvPr/>
          </p:nvPicPr>
          <p:blipFill>
            <a:blip r:embed="rId5"/>
            <a:stretch/>
          </p:blipFill>
          <p:spPr>
            <a:xfrm>
              <a:off x="1829880" y="3585960"/>
              <a:ext cx="600120" cy="6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38 Imagen" descr="Fotolia.jpg"/>
            <p:cNvPicPr/>
            <p:nvPr/>
          </p:nvPicPr>
          <p:blipFill>
            <a:blip r:embed="rId6"/>
            <a:stretch/>
          </p:blipFill>
          <p:spPr>
            <a:xfrm>
              <a:off x="1814760" y="2398320"/>
              <a:ext cx="69012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3 Rectángulo redondeado"/>
          <p:cNvSpPr/>
          <p:nvPr/>
        </p:nvSpPr>
        <p:spPr>
          <a:xfrm>
            <a:off x="1577880" y="1484280"/>
            <a:ext cx="421956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SITUACIONE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3 Imagen" descr="fotolia_7346705.jpg"/>
          <p:cNvPicPr/>
          <p:nvPr/>
        </p:nvPicPr>
        <p:blipFill>
          <a:blip r:embed="rId7"/>
          <a:stretch/>
        </p:blipFill>
        <p:spPr>
          <a:xfrm>
            <a:off x="7281720" y="3290760"/>
            <a:ext cx="1683000" cy="1720800"/>
          </a:xfrm>
          <a:prstGeom prst="rect">
            <a:avLst/>
          </a:prstGeom>
          <a:ln w="0">
            <a:noFill/>
          </a:ln>
        </p:spPr>
      </p:pic>
      <p:sp>
        <p:nvSpPr>
          <p:cNvPr id="126" name="116 Redondear rectángulo de esquina del mismo lado"/>
          <p:cNvSpPr/>
          <p:nvPr/>
        </p:nvSpPr>
        <p:spPr>
          <a:xfrm flipH="1">
            <a:off x="1636560" y="5811840"/>
            <a:ext cx="5888160" cy="785880"/>
          </a:xfrm>
          <a:custGeom>
            <a:avLst/>
            <a:gdLst/>
            <a:ahLst/>
            <a:rect l="l" t="t" r="r" b="b"/>
            <a:pathLst>
              <a:path w="5888037" h="785812">
                <a:moveTo>
                  <a:pt x="392906" y="0"/>
                </a:moveTo>
                <a:lnTo>
                  <a:pt x="5495131" y="0"/>
                </a:lnTo>
                <a:cubicBezTo>
                  <a:pt x="5712127" y="0"/>
                  <a:pt x="5888037" y="175910"/>
                  <a:pt x="5888037" y="392906"/>
                </a:cubicBezTo>
                <a:lnTo>
                  <a:pt x="5888037" y="785812"/>
                </a:lnTo>
                <a:lnTo>
                  <a:pt x="5888037" y="785812"/>
                </a:lnTo>
                <a:lnTo>
                  <a:pt x="0" y="785812"/>
                </a:lnTo>
                <a:lnTo>
                  <a:pt x="0" y="785812"/>
                </a:lnTo>
                <a:lnTo>
                  <a:pt x="0" y="392906"/>
                </a:lnTo>
                <a:cubicBezTo>
                  <a:pt x="0" y="175910"/>
                  <a:pt x="175910" y="0"/>
                  <a:pt x="392906" y="0"/>
                </a:cubicBezTo>
                <a:close/>
              </a:path>
            </a:pathLst>
          </a:custGeom>
          <a:solidFill>
            <a:srgbClr val="e46c0a"/>
          </a:solidFill>
          <a:ln w="1908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3" descr="https://d57439wlqx3vo.cloudfront.net/main/039/039d74722f455470df89fc0c961e98cb/e50a87af39f41047a429bd05daece979.jpg"/>
          <p:cNvPicPr/>
          <p:nvPr/>
        </p:nvPicPr>
        <p:blipFill>
          <a:blip r:embed="rId8"/>
          <a:stretch/>
        </p:blipFill>
        <p:spPr>
          <a:xfrm>
            <a:off x="314280" y="5197320"/>
            <a:ext cx="1305000" cy="1660680"/>
          </a:xfrm>
          <a:prstGeom prst="rect">
            <a:avLst/>
          </a:prstGeom>
          <a:ln w="0">
            <a:noFill/>
          </a:ln>
        </p:spPr>
      </p:pic>
      <p:sp>
        <p:nvSpPr>
          <p:cNvPr id="128" name="Rectángulo 31"/>
          <p:cNvSpPr/>
          <p:nvPr/>
        </p:nvSpPr>
        <p:spPr>
          <a:xfrm>
            <a:off x="1619280" y="601200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ÓN SOCIAL: Hacerlos partícipes en la gestión local demostrando que se puede inculcar cultura tribu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5" descr=""/>
          <p:cNvPicPr/>
          <p:nvPr/>
        </p:nvPicPr>
        <p:blipFill>
          <a:blip r:embed="rId1"/>
          <a:stretch/>
        </p:blipFill>
        <p:spPr>
          <a:xfrm>
            <a:off x="603360" y="2359080"/>
            <a:ext cx="1328760" cy="555480"/>
          </a:xfrm>
          <a:prstGeom prst="rect">
            <a:avLst/>
          </a:prstGeom>
          <a:ln w="0">
            <a:noFill/>
          </a:ln>
        </p:spPr>
      </p:pic>
      <p:grpSp>
        <p:nvGrpSpPr>
          <p:cNvPr id="130" name="3 Rectángulo redondeado"/>
          <p:cNvGrpSpPr/>
          <p:nvPr/>
        </p:nvGrpSpPr>
        <p:grpSpPr>
          <a:xfrm>
            <a:off x="639720" y="1743120"/>
            <a:ext cx="7723080" cy="4511520"/>
            <a:chOff x="639720" y="1743120"/>
            <a:chExt cx="7723080" cy="4511520"/>
          </a:xfrm>
        </p:grpSpPr>
        <p:pic>
          <p:nvPicPr>
            <p:cNvPr id="131" name="3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39720" y="1743120"/>
              <a:ext cx="772308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84160" y="1987560"/>
              <a:ext cx="7239240" cy="40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5 CuadroTexto"/>
          <p:cNvGrpSpPr/>
          <p:nvPr/>
        </p:nvGrpSpPr>
        <p:grpSpPr>
          <a:xfrm>
            <a:off x="2828880" y="2206800"/>
            <a:ext cx="5156280" cy="890280"/>
            <a:chOff x="2828880" y="2206800"/>
            <a:chExt cx="5156280" cy="890280"/>
          </a:xfrm>
        </p:grpSpPr>
        <p:pic>
          <p:nvPicPr>
            <p:cNvPr id="134" name="5 CuadroTexto" descr=""/>
            <p:cNvPicPr/>
            <p:nvPr/>
          </p:nvPicPr>
          <p:blipFill>
            <a:blip r:embed="rId3"/>
            <a:stretch/>
          </p:blipFill>
          <p:spPr>
            <a:xfrm>
              <a:off x="2828880" y="2206800"/>
              <a:ext cx="515628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857680" y="2238480"/>
              <a:ext cx="509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</a:rPr>
                <a:t>Integrar al vecino del Cercado de Lima en condición de exclusión, a la gestión local y difusión de la cultura tributari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Rectangle 5" descr=""/>
          <p:cNvPicPr/>
          <p:nvPr/>
        </p:nvPicPr>
        <p:blipFill>
          <a:blip r:embed="rId4"/>
          <a:stretch/>
        </p:blipFill>
        <p:spPr>
          <a:xfrm>
            <a:off x="566640" y="4797360"/>
            <a:ext cx="1719360" cy="555840"/>
          </a:xfrm>
          <a:prstGeom prst="rect">
            <a:avLst/>
          </a:prstGeom>
          <a:ln w="0">
            <a:noFill/>
          </a:ln>
        </p:spPr>
      </p:pic>
      <p:grpSp>
        <p:nvGrpSpPr>
          <p:cNvPr id="137" name="7 CuadroTexto"/>
          <p:cNvGrpSpPr/>
          <p:nvPr/>
        </p:nvGrpSpPr>
        <p:grpSpPr>
          <a:xfrm>
            <a:off x="2835360" y="3975120"/>
            <a:ext cx="5145120" cy="633240"/>
            <a:chOff x="2835360" y="3975120"/>
            <a:chExt cx="5145120" cy="633240"/>
          </a:xfrm>
        </p:grpSpPr>
        <p:pic>
          <p:nvPicPr>
            <p:cNvPr id="138" name="7 CuadroTexto" descr=""/>
            <p:cNvPicPr/>
            <p:nvPr/>
          </p:nvPicPr>
          <p:blipFill>
            <a:blip r:embed="rId5"/>
            <a:stretch/>
          </p:blipFill>
          <p:spPr>
            <a:xfrm>
              <a:off x="2835360" y="3975120"/>
              <a:ext cx="5145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857680" y="3995640"/>
              <a:ext cx="50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Lograr el acercamiento a los contribuyentes y la participación de la comunidad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9 CuadroTexto"/>
          <p:cNvGrpSpPr/>
          <p:nvPr/>
        </p:nvGrpSpPr>
        <p:grpSpPr>
          <a:xfrm>
            <a:off x="2835360" y="5565600"/>
            <a:ext cx="5145120" cy="633600"/>
            <a:chOff x="2835360" y="5565600"/>
            <a:chExt cx="5145120" cy="633600"/>
          </a:xfrm>
        </p:grpSpPr>
        <p:pic>
          <p:nvPicPr>
            <p:cNvPr id="141" name="9 CuadroTexto" descr=""/>
            <p:cNvPicPr/>
            <p:nvPr/>
          </p:nvPicPr>
          <p:blipFill>
            <a:blip r:embed="rId6"/>
            <a:stretch/>
          </p:blipFill>
          <p:spPr>
            <a:xfrm>
              <a:off x="2835360" y="5565600"/>
              <a:ext cx="51451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857680" y="5589720"/>
              <a:ext cx="50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Incrementar la comunicación efectiva a los contribuyent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1 CuadroTexto"/>
          <p:cNvGrpSpPr/>
          <p:nvPr/>
        </p:nvGrpSpPr>
        <p:grpSpPr>
          <a:xfrm>
            <a:off x="2828880" y="4767120"/>
            <a:ext cx="5156280" cy="646200"/>
            <a:chOff x="2828880" y="4767120"/>
            <a:chExt cx="5156280" cy="646200"/>
          </a:xfrm>
        </p:grpSpPr>
        <p:pic>
          <p:nvPicPr>
            <p:cNvPr id="144" name="11 CuadroTexto" descr=""/>
            <p:cNvPicPr/>
            <p:nvPr/>
          </p:nvPicPr>
          <p:blipFill>
            <a:blip r:embed="rId7"/>
            <a:stretch/>
          </p:blipFill>
          <p:spPr>
            <a:xfrm>
              <a:off x="2828880" y="4767120"/>
              <a:ext cx="51562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857680" y="4797360"/>
              <a:ext cx="50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ermitir que los vecinos participen en su comunidad fomentando la cultura tributari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3 Rectángulo redondeado"/>
          <p:cNvSpPr/>
          <p:nvPr/>
        </p:nvSpPr>
        <p:spPr>
          <a:xfrm>
            <a:off x="1000080" y="1125360"/>
            <a:ext cx="421956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Calibri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1" descr="http://www.fenercom.com/img/fundacion/objetivos-y-fines-diana-de-eficiencia-energetica.jpg"/>
          <p:cNvPicPr/>
          <p:nvPr/>
        </p:nvPicPr>
        <p:blipFill>
          <a:blip r:embed="rId8"/>
          <a:stretch/>
        </p:blipFill>
        <p:spPr>
          <a:xfrm>
            <a:off x="755640" y="3070080"/>
            <a:ext cx="1584360" cy="158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http://www.cambiandocreencias.com/wp-content/uploads/2012/09/Fotolia_34894048_XS.jpg"/>
          <p:cNvPicPr/>
          <p:nvPr/>
        </p:nvPicPr>
        <p:blipFill>
          <a:blip r:embed="rId9"/>
          <a:stretch/>
        </p:blipFill>
        <p:spPr>
          <a:xfrm>
            <a:off x="7667640" y="930240"/>
            <a:ext cx="11127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Rectángulo redondeado"/>
          <p:cNvSpPr/>
          <p:nvPr/>
        </p:nvSpPr>
        <p:spPr>
          <a:xfrm>
            <a:off x="2195640" y="1162080"/>
            <a:ext cx="6589440" cy="577800"/>
          </a:xfrm>
          <a:prstGeom prst="roundRect">
            <a:avLst>
              <a:gd name="adj" fmla="val 5356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Vecinos del Cercado de Lima, en situación de exclusión</a:t>
            </a: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, priorizando a los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mayores de 40 años y/o con responsabilidad familiar</a:t>
            </a: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6 Rectángulo redondeado"/>
          <p:cNvGrpSpPr/>
          <p:nvPr/>
        </p:nvGrpSpPr>
        <p:grpSpPr>
          <a:xfrm>
            <a:off x="725400" y="1023840"/>
            <a:ext cx="1712880" cy="890640"/>
            <a:chOff x="725400" y="1023840"/>
            <a:chExt cx="1712880" cy="890640"/>
          </a:xfrm>
        </p:grpSpPr>
        <p:pic>
          <p:nvPicPr>
            <p:cNvPr id="151" name="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1023840"/>
              <a:ext cx="17128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68240" y="1065240"/>
              <a:ext cx="163044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Calibri"/>
                </a:rPr>
                <a:t>PÚBLICO OBJET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9 Rectángulo redondeado"/>
          <p:cNvSpPr/>
          <p:nvPr/>
        </p:nvSpPr>
        <p:spPr>
          <a:xfrm>
            <a:off x="2195640" y="2314440"/>
            <a:ext cx="6589440" cy="1009800"/>
          </a:xfrm>
          <a:prstGeom prst="roundRect">
            <a:avLst>
              <a:gd name="adj" fmla="val 7190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Mejorar la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calidad de vida </a:t>
            </a:r>
            <a:r>
              <a:rPr b="0" lang="es-PE" sz="1600" spc="-1" strike="noStrike">
                <a:solidFill>
                  <a:srgbClr val="000000"/>
                </a:solidFill>
                <a:latin typeface="Calibri"/>
              </a:rPr>
              <a:t>de los vecinos notificadores brindándoles oportunidad con retribución, 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logrando el acercamiento a los contribuyentes de Cercado de Lima para que puedan cumplir con sus obligaciones oportun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0 Rectángulo redondeado"/>
          <p:cNvGrpSpPr/>
          <p:nvPr/>
        </p:nvGrpSpPr>
        <p:grpSpPr>
          <a:xfrm>
            <a:off x="725400" y="2286000"/>
            <a:ext cx="1785960" cy="1096920"/>
            <a:chOff x="725400" y="2286000"/>
            <a:chExt cx="1785960" cy="1096920"/>
          </a:xfrm>
        </p:grpSpPr>
        <p:pic>
          <p:nvPicPr>
            <p:cNvPr id="155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25400" y="2286000"/>
              <a:ext cx="17859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90560" y="2351160"/>
              <a:ext cx="16574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Calibri"/>
                </a:rPr>
                <a:t>DESCRIP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ángulo redondeado 8"/>
          <p:cNvSpPr/>
          <p:nvPr/>
        </p:nvSpPr>
        <p:spPr>
          <a:xfrm>
            <a:off x="3492360" y="3755880"/>
            <a:ext cx="5256360" cy="2913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ángulo redondeado 9"/>
          <p:cNvSpPr/>
          <p:nvPr/>
        </p:nvSpPr>
        <p:spPr>
          <a:xfrm>
            <a:off x="3780000" y="4005360"/>
            <a:ext cx="4752720" cy="2519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agen 1" descr=""/>
          <p:cNvPicPr/>
          <p:nvPr/>
        </p:nvPicPr>
        <p:blipFill>
          <a:blip r:embed="rId3"/>
          <a:stretch/>
        </p:blipFill>
        <p:spPr>
          <a:xfrm>
            <a:off x="379440" y="4797360"/>
            <a:ext cx="300672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http://gota4regs.org/wp-content/uploads/2014/09/target.jpg"/>
          <p:cNvPicPr/>
          <p:nvPr/>
        </p:nvPicPr>
        <p:blipFill>
          <a:blip r:embed="rId4"/>
          <a:stretch/>
        </p:blipFill>
        <p:spPr>
          <a:xfrm>
            <a:off x="1187280" y="3529080"/>
            <a:ext cx="1152720" cy="1123920"/>
          </a:xfrm>
          <a:prstGeom prst="rect">
            <a:avLst/>
          </a:prstGeom>
          <a:ln w="0">
            <a:noFill/>
          </a:ln>
        </p:spPr>
      </p:pic>
      <p:pic>
        <p:nvPicPr>
          <p:cNvPr id="161" name="Imagen 1" descr=""/>
          <p:cNvPicPr/>
          <p:nvPr/>
        </p:nvPicPr>
        <p:blipFill>
          <a:blip r:embed="rId5"/>
          <a:stretch/>
        </p:blipFill>
        <p:spPr>
          <a:xfrm>
            <a:off x="3924360" y="4238640"/>
            <a:ext cx="4444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2 Rectángulo redondeado"/>
          <p:cNvSpPr/>
          <p:nvPr/>
        </p:nvSpPr>
        <p:spPr>
          <a:xfrm>
            <a:off x="395280" y="1916280"/>
            <a:ext cx="4543560" cy="4681440"/>
          </a:xfrm>
          <a:custGeom>
            <a:avLst/>
            <a:gdLst>
              <a:gd name="textAreaLeft" fmla="*/ 117000 w 4543560"/>
              <a:gd name="textAreaRight" fmla="*/ 4426560 w 4543560"/>
              <a:gd name="textAreaTop" fmla="*/ 117000 h 4681440"/>
              <a:gd name="textAreaBottom" fmla="*/ 4564440 h 4681440"/>
            </a:gdLst>
            <a:ahLst/>
            <a:rect l="textAreaLeft" t="textAreaTop" r="textAreaRight" b="textAreaBottom"/>
            <a:pathLst>
              <a:path w="21600" h="22255">
                <a:moveTo>
                  <a:pt x="1902" y="0"/>
                </a:moveTo>
                <a:arcTo wR="1902" hR="1902" stAng="16200000" swAng="-5400000"/>
                <a:lnTo>
                  <a:pt x="0" y="20353"/>
                </a:lnTo>
                <a:arcTo wR="1902" hR="1902" stAng="10800000" swAng="-5400000"/>
                <a:lnTo>
                  <a:pt x="19698" y="22255"/>
                </a:lnTo>
                <a:arcTo wR="1902" hR="1902" stAng="5400000" swAng="-5400000"/>
                <a:lnTo>
                  <a:pt x="21600" y="1902"/>
                </a:lnTo>
                <a:arcTo wR="1902" hR="1902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Práctica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sostenible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 ( Desde el 2007 y vigente a la fech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Involucra a los propios vecinos en la gestión local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, fortaleciendo las relaciones entre la comunidad y nuestra Institu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Mayor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acercamiento a los contribuyentes del Cercado de Lima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, lográndose incrementar la cobertura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de 35 mil comunicaciones 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antes de su implementación,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 a 72 mil comunicaciones en el 2015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Brinda un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ingreso de $ 400 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aproximadamente a 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mas de 250 vecinos notificadores 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durante campaña y un ingreso de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$ 130 mensual</a:t>
            </a:r>
            <a:r>
              <a:rPr b="0" lang="es-PE" sz="1600" spc="-1" strike="noStrike">
                <a:solidFill>
                  <a:srgbClr val="0000ff"/>
                </a:solidFill>
                <a:latin typeface="Calibri"/>
              </a:rPr>
              <a:t> aproximadamente a </a:t>
            </a: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20 vecinos notificadores durante el resto del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ff"/>
                </a:solidFill>
                <a:latin typeface="Calibri"/>
              </a:rPr>
              <a:t>EXPERIENCIA REPLIC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23 Rectángulo redondeado"/>
          <p:cNvGrpSpPr/>
          <p:nvPr/>
        </p:nvGrpSpPr>
        <p:grpSpPr>
          <a:xfrm>
            <a:off x="798480" y="1163520"/>
            <a:ext cx="3024360" cy="420840"/>
            <a:chOff x="798480" y="1163520"/>
            <a:chExt cx="3024360" cy="420840"/>
          </a:xfrm>
        </p:grpSpPr>
        <p:pic>
          <p:nvPicPr>
            <p:cNvPr id="164" name="2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98480" y="1163520"/>
              <a:ext cx="30243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39880" y="1209600"/>
              <a:ext cx="2940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Calibri"/>
                </a:rPr>
                <a:t>ASPECTOS FAVOR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Imagen 1" descr=""/>
          <p:cNvPicPr/>
          <p:nvPr/>
        </p:nvPicPr>
        <p:blipFill>
          <a:blip r:embed="rId2"/>
          <a:srcRect l="20346" t="0" r="0" b="0"/>
          <a:stretch/>
        </p:blipFill>
        <p:spPr>
          <a:xfrm>
            <a:off x="5148360" y="3375000"/>
            <a:ext cx="3663720" cy="279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https://fisicauned.files.wordpress.com/2011/03/7411702xsmall-thumbs-up-web.jpg?w=490"/>
          <p:cNvPicPr/>
          <p:nvPr/>
        </p:nvPicPr>
        <p:blipFill>
          <a:blip r:embed="rId3"/>
          <a:stretch/>
        </p:blipFill>
        <p:spPr>
          <a:xfrm>
            <a:off x="5508720" y="1022400"/>
            <a:ext cx="2608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ángulo redondeado 2"/>
          <p:cNvSpPr/>
          <p:nvPr/>
        </p:nvSpPr>
        <p:spPr>
          <a:xfrm>
            <a:off x="324000" y="1557360"/>
            <a:ext cx="8496000" cy="518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ángulo redondeado 3"/>
          <p:cNvSpPr/>
          <p:nvPr/>
        </p:nvSpPr>
        <p:spPr>
          <a:xfrm>
            <a:off x="539640" y="1773360"/>
            <a:ext cx="8097840" cy="4824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23 Rectángulo redondeado"/>
          <p:cNvGrpSpPr/>
          <p:nvPr/>
        </p:nvGrpSpPr>
        <p:grpSpPr>
          <a:xfrm>
            <a:off x="1279440" y="1017720"/>
            <a:ext cx="4402080" cy="409320"/>
            <a:chOff x="1279440" y="1017720"/>
            <a:chExt cx="4402080" cy="409320"/>
          </a:xfrm>
        </p:grpSpPr>
        <p:pic>
          <p:nvPicPr>
            <p:cNvPr id="171" name="2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279440" y="1017720"/>
              <a:ext cx="440208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24080" y="1060560"/>
              <a:ext cx="4316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Calibri"/>
                </a:rPr>
                <a:t>RESULTADOS CON INDIC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Imagen 6" descr=""/>
          <p:cNvPicPr/>
          <p:nvPr/>
        </p:nvPicPr>
        <p:blipFill>
          <a:blip r:embed="rId2"/>
          <a:stretch/>
        </p:blipFill>
        <p:spPr>
          <a:xfrm>
            <a:off x="722160" y="1989000"/>
            <a:ext cx="7810560" cy="4248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ttp://www.portafolio.co/sites/portafolio.co/files/imagecache/610x306/FLECHA.jpg"/>
          <p:cNvPicPr/>
          <p:nvPr/>
        </p:nvPicPr>
        <p:blipFill>
          <a:blip r:embed="rId3"/>
          <a:stretch/>
        </p:blipFill>
        <p:spPr>
          <a:xfrm>
            <a:off x="6156360" y="876240"/>
            <a:ext cx="2736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24 Rectángulo redondeado"/>
          <p:cNvGrpSpPr/>
          <p:nvPr/>
        </p:nvGrpSpPr>
        <p:grpSpPr>
          <a:xfrm>
            <a:off x="798480" y="1298520"/>
            <a:ext cx="3224160" cy="573120"/>
            <a:chOff x="798480" y="1298520"/>
            <a:chExt cx="3224160" cy="573120"/>
          </a:xfrm>
        </p:grpSpPr>
        <p:pic>
          <p:nvPicPr>
            <p:cNvPr id="176" name="2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98480" y="1298520"/>
              <a:ext cx="32241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35200" y="1333440"/>
              <a:ext cx="3152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Calibri"/>
                </a:rPr>
                <a:t>RESULTADOS EN EFE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ángulo redondeado 1"/>
          <p:cNvSpPr/>
          <p:nvPr/>
        </p:nvSpPr>
        <p:spPr>
          <a:xfrm>
            <a:off x="684360" y="2133720"/>
            <a:ext cx="7848360" cy="43909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ángulo redondeado 2"/>
          <p:cNvSpPr/>
          <p:nvPr/>
        </p:nvSpPr>
        <p:spPr>
          <a:xfrm>
            <a:off x="971640" y="2421000"/>
            <a:ext cx="7272360" cy="38163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2 Gráfico" descr=""/>
          <p:cNvPicPr/>
          <p:nvPr/>
        </p:nvPicPr>
        <p:blipFill>
          <a:blip r:embed="rId2"/>
          <a:stretch/>
        </p:blipFill>
        <p:spPr>
          <a:xfrm>
            <a:off x="1474920" y="1987560"/>
            <a:ext cx="6121440" cy="424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http://www.evolucione.mx/img/newsletters/16.jpg"/>
          <p:cNvPicPr/>
          <p:nvPr/>
        </p:nvPicPr>
        <p:blipFill>
          <a:blip r:embed="rId3"/>
          <a:stretch/>
        </p:blipFill>
        <p:spPr>
          <a:xfrm>
            <a:off x="324000" y="4884840"/>
            <a:ext cx="1368360" cy="1660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http://www.legaltoday.com/files/Image/actualidad/muneco-ok.jpg"/>
          <p:cNvPicPr/>
          <p:nvPr/>
        </p:nvPicPr>
        <p:blipFill>
          <a:blip r:embed="rId4"/>
          <a:stretch/>
        </p:blipFill>
        <p:spPr>
          <a:xfrm>
            <a:off x="6443640" y="907920"/>
            <a:ext cx="226224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G_6853"/>
          <p:cNvPicPr/>
          <p:nvPr/>
        </p:nvPicPr>
        <p:blipFill>
          <a:blip r:embed="rId1"/>
          <a:srcRect l="0" t="10639" r="0" b="6204"/>
          <a:stretch/>
        </p:blipFill>
        <p:spPr>
          <a:xfrm>
            <a:off x="324000" y="5261040"/>
            <a:ext cx="1365120" cy="14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835280" y="5261040"/>
            <a:ext cx="2128680" cy="1473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08320" y="5261040"/>
            <a:ext cx="2230560" cy="14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6443640" y="5261040"/>
            <a:ext cx="2389320" cy="146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grpSp>
        <p:nvGrpSpPr>
          <p:cNvPr id="187" name="24 Rectángulo redondeado"/>
          <p:cNvGrpSpPr/>
          <p:nvPr/>
        </p:nvGrpSpPr>
        <p:grpSpPr>
          <a:xfrm>
            <a:off x="1011240" y="1163520"/>
            <a:ext cx="1573200" cy="493920"/>
            <a:chOff x="1011240" y="1163520"/>
            <a:chExt cx="1573200" cy="493920"/>
          </a:xfrm>
        </p:grpSpPr>
        <p:pic>
          <p:nvPicPr>
            <p:cNvPr id="188" name="24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1011240" y="1163520"/>
              <a:ext cx="157320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50840" y="1203480"/>
              <a:ext cx="1498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Calibri"/>
                </a:rPr>
                <a:t>LOG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Imagen 2" descr=""/>
          <p:cNvPicPr/>
          <p:nvPr/>
        </p:nvPicPr>
        <p:blipFill>
          <a:blip r:embed="rId6"/>
          <a:stretch/>
        </p:blipFill>
        <p:spPr>
          <a:xfrm>
            <a:off x="480960" y="1844640"/>
            <a:ext cx="8267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57:09Z</dcterms:created>
  <dc:creator>marivera</dc:creator>
  <dc:description/>
  <dc:language>en-US</dc:language>
  <cp:lastModifiedBy>HP</cp:lastModifiedBy>
  <dcterms:modified xsi:type="dcterms:W3CDTF">2015-06-10T17:44:48Z</dcterms:modified>
  <cp:revision>72</cp:revision>
  <dc:subject/>
  <dc:title>Diapositiva 1</dc:title>
</cp:coreProperties>
</file>